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4F5B-DCA5-4077-8AD8-8B94A3E6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0824-83EE-4AD3-9137-AA46145B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F9360-BABE-4E2C-96EF-3165AC11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29741-D062-45FB-91D4-780B5E08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7F970-DBE1-4862-99C4-D3C00988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7EE05-3775-48DF-840F-90806452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0E73C-0EA9-46DE-9D7A-CC05F335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2DB2B-F0A7-4430-AA46-4D0FC39A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B9F19-7DD6-41CD-BE08-BB55651C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BFD15-0583-45F2-8CDE-ACC079FB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E9BD3-B4F5-4CCF-BF1A-353DBBCB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2B72B-7AF0-48AF-8334-ABAA891F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662A-1014-4518-9E06-4466DA01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7C07E-585F-45EE-8D02-FB1E1195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1B395-4275-4B47-AFC3-90391F31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BB393-DEBF-41D4-8901-7C471F86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B5356-3C2D-44EF-A5E3-9365F1F5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81C26-F01D-4108-BDF4-BBB06A43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8B848-B688-4083-B457-70BDB6A1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C8DC2-834C-4322-80AE-F03129D5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9159B-F2F1-42B2-B18E-C0DE833E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EC964-EFB2-4305-991E-30973262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5A7B4-06F0-4931-8C9E-6C7B47D7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BE1-49F3-4D8D-B334-E6C0621F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03EB4-4BD2-4FFD-A3C7-91A393E1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EC8EB-A30C-4346-9767-D2D0C039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1A543-F366-43CD-B440-2469C177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049CA-526A-452A-B672-9B13E08D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1711F-30A5-4295-B13C-7DE6348A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A8A1E-5224-4B66-A723-00216B24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EE817-A33E-4B45-8BB1-04D5F48C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F844E-B19F-4171-95B5-593CFB3F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7B238-2A8B-473D-8F51-7175424D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61C33-D75F-4900-B907-0BC639F0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F1D0-6290-42E1-9188-570EC230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E081B-C962-4C69-94FD-5799F304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63B31-8E72-4548-80ED-42E84226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83994-823F-48CE-816A-41B05FFB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11FD8-798D-4500-9609-3E11F048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7DDA2-3201-4D84-9C08-23D83420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E284A-6502-4C22-946D-AE652CC4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BACD3-0826-4069-9CB6-8DBC7B42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F4F5F-041C-4078-9832-FD4E27FB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E5A4B-0A5A-4D99-831E-C5E3017E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30E24-02E2-4E82-8519-6FDB26CE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5F2D-E1DB-45E1-8C26-8AB8C7F3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72502-7D01-4364-B004-4E8FBB42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80CF2-22BE-4349-AFC8-8C164B8D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5D47A-560F-4B43-B282-25AAD050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9B8DD-490C-4FE3-98FF-0BAFCB24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372B0-B859-4E8F-8C0D-4EF548E8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6125-5AC2-429B-9E8F-C33B96BD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3508-BAAF-4794-933F-52F44FFA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B866-ED14-4113-BF27-14815686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2604-B951-4BCA-8DE0-343E6839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CBA7-BB18-47DC-9626-DF2968B0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16D-0911-4D0B-B0BE-8B1AD59C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795C-8FE8-41E0-A972-0D991272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C3D7-9B63-4733-9FB0-38529E93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7871-AFB3-4B55-A358-3256AAC3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2F76-9F00-4CBA-97E0-7CA471C0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2420-E011-48F9-B1E3-2C974CFA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A7BCBC-112C-4271-90CC-F419867E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C9EBD4-D1C2-49CE-8065-CF1471D9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39B6DC-6E87-4F77-9DC0-6C21CBBC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511ABE-D97E-4CEF-92E6-8D1B2655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53E558-FB1D-470C-95D0-1877E9ED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7B96-BA3E-4773-82A0-A382BE1F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14F99C-A2D3-4E09-9353-98F1D727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F83DB4-CEC4-4E04-91B8-0304099B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27AA1F-DF57-4039-856A-98FCC989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0E4894-E80D-4790-9426-300B1B87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CE4396-41A6-4637-83A2-FC45635B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BBA562-B7D1-4D04-ADA4-7B74794D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D82237-3341-4A43-9C8A-B26E28E4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F8EF0-9960-4415-A55F-9BC5A0E8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22AF2-FF22-4C9B-A903-FB9A6E3D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CE223-EFE2-4EB8-B3E1-1398FEEB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DA9F-6BC4-4A09-AC3F-35413A6E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E4103-A548-4C00-9C95-18DCE2B8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5BFA6-EC7D-4087-A287-F2090C15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08DFB-CC11-4F82-968F-913B5299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83572-C719-45B2-8E00-CFECBED8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AA4A1-CE09-47D9-A0CD-B9BE16E7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50CEB-96E6-4C95-B2CB-6BFBBF86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BF869-19FC-4EB7-86EC-D4B94B89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355A0-AB44-494A-B07A-7646CB39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8DF6D-D805-4AB6-8B59-833A03E4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E7822-81C6-40FB-B117-E3F6D540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4F53-5C57-4DB8-ACE3-600A4CC7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BC18F-3C4D-4D96-BC3C-C2E1D261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69C7C-E727-411C-9B94-9078D894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8BF75-65F4-43F7-B000-B5CACF58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483B3-94A7-4BDD-9D23-F123F343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0A999-2BD3-4CFD-B470-8AC991A3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04B4D-13D4-4629-B3A4-76B95858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C6E5A-A36F-4D79-AD4E-6374D07D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41561-87AE-44D9-8FB7-176C22AA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AB565-560A-4C76-9827-BEE263C6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24899-C537-431A-BFF9-DCAA9628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2F2-AD22-4FAD-8C16-0B01BEDF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32757-0A1C-4FA4-A56F-7665C240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DD9AF-FA37-492A-ABCD-0FE8DE22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681CD-CD83-41D5-9852-B8F64A06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EF06B-C3DD-44B0-84FB-B6A0E261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0D733-E91D-4E48-B70D-1F8124B3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1EB4F-11F4-464C-86B7-0AD5FBD0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C9A05-E4B7-40E9-8BCF-B8A111B9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F709E-AF00-4155-9B77-2C219045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E1344-7A18-4B07-9823-8F2A25C2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A2327-23EF-4CE0-B301-FDCF67E1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CB9C-071D-40BB-8EB2-84133BD3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A845E-27FA-4C3A-8E66-E34E2201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0FD42-18AC-45B7-81AC-C81E6E71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DAF20-C234-4FD1-AC23-CD486773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3541C-A3B6-4AD1-90C3-10069533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7A5B1-1C32-4CB7-A50A-F60873AD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362BC-21EF-49A9-A2D0-875C1B86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E0311-FF32-415D-9A4B-C5411435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323C1-F7E3-4923-9708-C65F2341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FC347-6FDA-46DD-A10D-7CC1D450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FAAC4-A5FF-40A7-BD0E-1D5FF0DF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01D9-9E2B-4AFE-AE1B-4AFBBC9F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6014E-3F44-4962-A162-6A7DB076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43BCC-4DD0-40F7-8E36-1CF8702F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0DB04-6BBE-40EF-A1F5-3C2F7803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4457E-3F84-4595-B89D-B590F9D2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9D7D6-CB6C-4433-BE8F-B020086D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ECF3A6-BA53-46F7-9C19-5058E925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760893-907A-4786-B3CC-F207F602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5C8141-3F41-4E85-9458-EF2A8F69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19210E-0452-4ADF-9C3A-1F7C785F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037A53-45B6-4775-A946-69DE2CE1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5612-EB45-4565-9C95-ECB713AA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3535E6-D71D-42AB-BC49-1B41BC9E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1A1C36-5955-4617-AB72-70AE69E2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CA473F-D9AE-4CD6-B12F-4CBC2FE1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F06CFA-9BD7-4FF6-80FC-3F2EEABC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78A012-7E78-4BBD-A41E-33C59F2C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03D97E-AD8C-4B36-8D16-F5399457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457E5B-28E7-453D-8DA2-C8AF7EE3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9CF7D-296B-4BEE-9018-3F2CCF4D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96531-894E-4116-8C3C-280F45B9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03794-4B3E-40AC-8670-4A16E607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8791-C89B-4433-85EE-F6FECE5DBCC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B454-9144-4708-9A16-62969B9C89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46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3EBF-D68E-48CF-87D2-9432454006B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0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A508-8E22-434D-AD17-8B8F98D8BD2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9BBF-955A-4BF0-AC25-52CB7C291FB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6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97E6-CF00-46E6-92AC-D2F616C4C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1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E1C0-EB2E-426E-AC93-B2F7B685D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74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76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26FE-6031-45C7-8662-81C615AB70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721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723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727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168C-F205-4944-A586-DDC638E246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DCEB-2EE5-4490-9A28-9FABF6E32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87DA-6A32-4E38-8E21-12F3EBF1D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5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9AD1-E26A-4FEE-A834-9FA1D042EF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Имя существительное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5класс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лицина Ирина Николаевна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учитель русского языка,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пасский район,с.Три Озер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Морфологические признаки: 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2700000" y="2276280"/>
            <a:ext cx="5986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енение  п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исл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деж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клонение  имен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уществительных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во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 дороги   (у зем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т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дороге (по земл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дл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дороге (о земле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в безударном оконч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чат нея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тором и третьем склонениях 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вариант написания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 скл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3 скл.).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Имена существительные</a:t>
            </a:r>
            <a:br>
              <a:rPr sz="4000"/>
            </a:b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одушевленные и неодушевленны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2126880"/>
            <a:ext cx="82296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К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волк, лисица, заяц, тигр, лес, поляна, дом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Ч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очаровательные ночи, струится св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улыбающееся солнц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мена собственные и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            нарицательны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ород, деревня, океан, озеро, ре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 а р и ц а т е л ь н ы 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мена людей, названия рек, город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лиц пишутся с заглавной буквы 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являются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собств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362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Род  имен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существительных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        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28429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Женский :       весна, земля…(- а, я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ужской :    дуб, брат, цвет, предмет…(- без окон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Средний :    кино, пальто, окно….( - о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7:09:27Z</dcterms:created>
  <dc:creator>A0001</dc:creator>
  <dc:description/>
  <dc:language>en-US</dc:language>
  <cp:lastModifiedBy>A0001</cp:lastModifiedBy>
  <dcterms:modified xsi:type="dcterms:W3CDTF">2002-12-05T12:50:34Z</dcterms:modified>
  <cp:revision>12</cp:revision>
  <dc:subject/>
  <dc:title>  Имя существительное 5класс  Телицина Ирина Николаевна,учитель русского языка,Спасский район,с.Три Озера</dc:title>
</cp:coreProperties>
</file>